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22050"/>
        <c:axId val="28716877"/>
      </c:barChart>
      <c:catAx>
        <c:axId val="72522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16877"/>
        <c:crosses val="autoZero"/>
        <c:auto val="1"/>
        <c:lblAlgn val="ctr"/>
        <c:lblOffset val="100"/>
        <c:noMultiLvlLbl val="0"/>
      </c:catAx>
      <c:valAx>
        <c:axId val="28716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22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AAC-B2BB-4D2D-826C-49AD2977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FCD-335E-4F05-A1D8-75C8A4CC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EA6-2967-40B8-BAD0-1D3139A1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97F-EC09-4D75-A98E-295B3BC3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EFC-D660-4948-8F33-CE3A16F0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560-1819-4F75-92DB-BC5B1BD6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EED-20D0-48CE-8B94-892DF57F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02E-B0E4-4749-BFF5-40EFCA4B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220-D3C2-4302-A352-F607B81D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0C5-E604-4974-A083-3B58B399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20F-4E48-4F65-BEE1-3CE63F5C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802-75B1-4082-9141-0F3F7BD1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D489B-58B6-4AB1-B571-F872B01365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