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76996"/>
        <c:axId val="68736185"/>
      </c:barChart>
      <c:catAx>
        <c:axId val="69976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36185"/>
        <c:crosses val="autoZero"/>
        <c:auto val="1"/>
        <c:lblAlgn val="ctr"/>
        <c:lblOffset val="100"/>
        <c:noMultiLvlLbl val="0"/>
      </c:catAx>
      <c:valAx>
        <c:axId val="68736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76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D4CE-9D77-4A3E-8DA1-BB157128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0F9-7293-4A86-A3B1-9A49153A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5EF-4E85-474D-A7AD-A03DCE95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8BD-6918-440D-AE82-C67B5774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DA52-BBF5-487A-82AE-FF3EF3ED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42B-FEAB-479D-83E3-00384311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A94-9DA4-4F5E-95A4-6A087ECA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BF82-86A5-40B6-AE3B-446C84FB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4F7E-489F-4BB6-9776-5570F4AA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118C-430E-4313-8F0B-C0D35F5A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AD9D-315E-48B9-AF20-F4FDD451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E2C-F031-4D10-B95A-77151B9B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3050B-9F8E-47BE-9D1F-2CF0935DB4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